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D6D9B-588C-4DB4-AF17-8143F160D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3BCB2-B9B2-494D-A84A-649771C4C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7190D-F72B-4F7B-BEC6-54F77E8A0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9E310-4B06-43FB-8937-1DC1FC866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72138-F433-493A-A5D6-1B8DCE92B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86A8B-A6D8-478B-A917-446CCCE8F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EA671-66E4-4654-8CFB-FFA81BC6F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38699-486D-43B5-A353-18F8FEA64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B237C-6EB2-4394-80DD-2CBB09643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7EFBC-7C0B-4640-858A-232CB158B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E9BD8-481F-48A9-9793-68FB565C3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92DD6-E5DC-4804-86BA-CF53AD3FC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87B14-A156-4F10-89A1-D21826E06E9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21T00:59:46Z</dcterms:created>
  <dc:creator>Administrator</dc:creator>
  <dc:description/>
  <dc:language>en-US</dc:language>
  <cp:lastModifiedBy>Administrator</cp:lastModifiedBy>
  <dcterms:modified xsi:type="dcterms:W3CDTF">2015-04-21T01:00:09Z</dcterms:modified>
  <cp:revision>1</cp:revision>
  <dc:subject/>
  <dc:title/>
</cp:coreProperties>
</file>